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81B-D526-424B-9E2E-C3B27E8A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919-FF4B-4F32-84A9-6661823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350-F351-4C20-8F2B-9D6BEBB5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66A-B912-4E0F-80D5-5976AB8D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2CE-F3EC-4A11-BF12-0B95823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4A3-02F5-4856-B465-E4978893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7E9-7B8A-443E-8850-98BC5C2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849-ACFF-40F4-85C6-B8687BEC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D58-E265-4A4A-81EC-B6AF757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D8C-49F9-46FE-B129-2970C4F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8F4-D050-4CED-8F2B-B6C644F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80C-FF9F-4AA4-BF0F-BE54FDA4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32E1-A198-486D-9FD1-4BEC4060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google.co.nz/imgres?imgurl=http://content.artofmanliness.com/uploads/2008/07/coral-snake.jpg&amp;imgrefurl=http://artofmanliness.com/2008/07/14/complete-guide-to-snakes/&amp;usg=__rcROPJXd-ZjkzFHD1dP0Bq24u8s=&amp;h=336&amp;w=448&amp;sz=39&amp;hl=en&amp;start=1&amp;zoom=1&amp;itbs=1&amp;tbnid=onbQ0aMnW3-L_M:&amp;tbnh=95&amp;tbnw=127&amp;prev=/images%3Fq%3DSnak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nz/imgres?imgurl=http://static.howstuffworks.com/gif/willow/coral-snake-info0.gif&amp;imgrefurl=http://animals.howstuffworks.com/snakes/coral-snake-info.htm&amp;usg=__Cdc0tnl3HV5fFRlK7kz-Cndq3YM=&amp;h=300&amp;w=432&amp;sz=57&amp;hl=en&amp;start=7&amp;zoom=1&amp;itbs=1&amp;tbnid=y0DZxjHUPDIeYM:&amp;tbnh=88&amp;tbnw=126&amp;prev=/images%3Fq%3DSnake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 ARE LEARNING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ff"/>
                </a:solidFill>
                <a:latin typeface="Chiller"/>
              </a:rPr>
              <a:t>Use similes to describe how we move at swimm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cc00"/>
                </a:solidFill>
                <a:latin typeface="comic"/>
              </a:rPr>
              <a:t>As slippery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765000"/>
            <a:ext cx="10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Broadway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Broadway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Broadway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6589800" y="378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Monotype Corsiva"/>
              </a:rPr>
              <a:t>SSSSSSSSSSSSSSSSSSS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04000" y="3284640"/>
            <a:ext cx="1827360" cy="154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2427120"/>
            <a:ext cx="1584360" cy="11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71880" y="2808360"/>
            <a:ext cx="1679760" cy="117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24000" y="5173560"/>
            <a:ext cx="1788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-0.17229 C 0.24045 -0.18293 0.28316 -0.19357 0.29792 -0.19357 C 0.39271 -0.19357 0.48993 -0.02706 0.48993 0.13946 C 0.48993 0.05551 0.53837 -0.02706 0.58455 -0.02706 C 0.63299 -0.02706 0.67917 0.05689 0.67917 0.13946 C 0.67917 0.09806 0.7033 0.05551 0.72743 0.05551 C 0.75191 0.05551 0.77604 0.0969 0.77604 0.13946 C 0.77604 0.11818 0.78854 0.09806 0.8007 0.09806 C 0.81302 0.09806 0.82483 0.11934 0.82483 0.13946 C 0.82483 0.12882 0.83125 0.11818 0.83715 0.11818 C 0.84028 0.11818 0.84931 0.12882 0.84931 0.13946 C 0.84931 0.13414 0.85243 0.12882 0.85538 0.12882 C 0.85538 0.1302 0.86215 0.13414 0.86215 0.13946 C 0.86215 0.13668 0.86215 0.13414 0.86528 0.13414 C 0.86528 0.13552 0.86823 0.13691 0.86823 0.13946 C 0.86823 0.13807 0.86823 0.13668 0.86823 0.13552 C 0.87136 0.13552 0.87136 0.13691 0.87136 0.1383 C 0.87465 0.1383 0.87465 0.13691 0.87465 0.13552 C 0.87795 0.13552 0.87795 0.13691 0.87795 0.138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21:53:44Z</dcterms:created>
  <dc:creator>Ministry of Education</dc:creator>
  <dc:description/>
  <dc:language>en-US</dc:language>
  <cp:lastModifiedBy>Ministry of Education</cp:lastModifiedBy>
  <dcterms:modified xsi:type="dcterms:W3CDTF">2010-08-28T22:14:39Z</dcterms:modified>
  <cp:revision>1</cp:revision>
  <dc:subject/>
  <dc:title>WE ARE LEARNING TO…</dc:title>
</cp:coreProperties>
</file>